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D2D-1380-456D-A3D8-668FE879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76C-F8DE-4906-8592-37F9D8FC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3B3-DE02-4A10-875E-599F7403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531-E9B9-4CB8-A30B-CF208C56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C08-09E5-4236-8B0C-9F83B636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AC3-C8B4-4C40-BC80-D2D1D967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632-C486-4066-A28B-B86DA0C2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066-3BC8-4D0C-B290-CDE1171B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684-036B-4EF7-94A8-D8DA4687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189-4035-4D8E-9EBD-F5B36159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4FD-E064-48F8-A964-3B7FCC39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2F9-E104-4A59-AE71-CD88B434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11A2-B2D8-4E81-87E6-6673355C2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1043964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he home of Siberian Tiger, the West Siberian Plains is one of Russia’s major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orth European Plains lie in the northwest part of massive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West Siberian 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The world’s largest flat land in the world, the West Siberian Plains making it long to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Home to the Siberian Tiger which few live in the wild as of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The many rivers in the plain make the land muddy and wet in man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Forte"/>
              </a:rPr>
              <a:t>People can only live effectively in the southern part of this pl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North European 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Russia’s most mild climate only is in this small area leaving the rest unfavorable climat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Most of Russia’s small population lives in this south of this 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Moscow resides in the North European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tura MT Script Capitals"/>
              </a:rPr>
              <a:t>Why Russia’s Land is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Much of it’s land is mountainous and hard to work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The West Siberian Plains is muddy and mushy with many rivers flowing throug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</a:rPr>
              <a:t>Russia’s livable land is extremely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12014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Vivaldi"/>
              </a:rPr>
              <a:t>Central Siberian Platea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tura MT Script Capitals"/>
              </a:rPr>
              <a:t>Lake Baikal the deepest freshwater lake is on this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tura MT Script Capital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tura MT Script Capitals"/>
              </a:rPr>
              <a:t>Many people travel this plateau to see this lake which can be difficult with it’s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8:57:06Z</dcterms:created>
  <dc:creator> </dc:creator>
  <dc:description/>
  <dc:language>en-US</dc:language>
  <cp:lastModifiedBy> </cp:lastModifiedBy>
  <dcterms:modified xsi:type="dcterms:W3CDTF">2010-12-15T19:24:00Z</dcterms:modified>
  <cp:revision>3</cp:revision>
  <dc:subject/>
  <dc:title>It’s Always Tougher n Russia</dc:title>
</cp:coreProperties>
</file>